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CA2-6E4D-42C9-B059-DC3673DD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747-75A1-44CA-88E1-9E6B917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360-4A23-4CCB-9C54-E0C303AA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011-89E5-4122-9026-F2147908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738-9FBF-4DDC-AD97-E6F06702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20C-785A-4B83-AB6A-A6A5D74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F0DF-8ADD-4315-8400-6C9E02B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16E-A2DB-4A31-8726-0BDDE8D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1FCD-2A4B-4A99-9B43-CD9E596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11A2-A46D-4455-A4F5-8592105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026-7FFB-4EFA-9844-C1785C3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E22-4C6E-4AE5-9E56-3D74265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E854-1EF1-4D19-9FE1-0388A62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5D31-A5DD-456B-92F6-DB64BD3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52D-3C12-4EA1-ABD6-5E48A56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79E1-D37A-4FAC-9F51-371B6102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F84A-6312-4CFF-BAEA-486857BA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42C-D130-46DC-9DDE-558C03A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CDA-836B-4957-AF0B-130797F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4DB-EC61-4AA3-8884-B85E690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548-11EF-437E-B43B-8F46AD0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DD7-D25C-4698-8129-7711AE13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A8B-4CDE-48C4-BC79-9D386F9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ACF-1920-4B0F-A3EA-55C4190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0C9-860D-4C04-936E-D26984E02E40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DC3-369F-4BD9-B139-360769B5ED60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at a Glanc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rief overview concerning history, definition, cause and complications of ASD.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History of Autism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eo Kanner (1943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ins the term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autism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to describe children who are withdrawn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Believed the cause to be poor parenting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PA and IDEA recognize autism as a specific disability (1990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esently, research is focus on understanding the genetic role in autism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revalenc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tly debated but estimated to be about 1%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pproximately the same prevalence among all ethnic grou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Spectrum Disorder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haracteristics of autistic individuals may vary greatl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utism Spectrum Disorders (ASD):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efers to the full spectrum of autistic trait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sists of three disorders: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utistic Disorder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perger Syndrom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DD-NO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Spectrum Disorder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9520" y="1828800"/>
            <a:ext cx="89344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auses of ASD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e causes of ASD are not fully understoo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rauma related to abuse or neglect i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 caus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iologica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RI studies show abnormalities of the brain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Cerebellum –motor coordination, balance, cognition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Frontal Lobe – social and cognitive functions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Temporal Lobe – Plays role in understanding facial expressions and social cues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vironmenta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ality of care plays a role in developmen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ositive, structured environment significantly improves behavior problem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omplications with Academic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ote Memor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oblem-Solv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nguage Disord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lf-Stimulatory Behavio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nsory Issu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6:18:38Z</dcterms:created>
  <dc:creator>Amanda Quail</dc:creator>
  <dc:description/>
  <dc:language>en-US</dc:language>
  <cp:lastModifiedBy>Amanda Quail</cp:lastModifiedBy>
  <dcterms:modified xsi:type="dcterms:W3CDTF">2010-06-11T06:19:22Z</dcterms:modified>
  <cp:revision>1</cp:revision>
  <dc:subject/>
  <dc:title>PowerPoint Presentation</dc:title>
</cp:coreProperties>
</file>